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C816A-7D56-4EAE-BB85-130BD4B40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DA2D7-CCD1-4BE5-8C68-E556795D8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E3122-8E58-43C1-8573-C8B015C77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0B7AD-80F1-4D47-AEA9-607CD7AD8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CF233-388E-4D64-A951-4CBA11C8D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FB3CA-80B2-4A6D-9ADE-7A32D410A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8AE87-5C74-46B7-B9A4-2B4809837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18107-8BBA-4AD7-8FB3-AA34798BC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A5E28-0B42-4698-84E4-974B76DEB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7EE4A-7BB8-421F-B67D-7E986D34A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60EFF-E249-44C9-AF4D-1743353CC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6A4A2-0FDD-4390-A701-07F15DA84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DDB1A-0DFF-4513-B8EC-99FD9599DB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CT 205</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ek 2 Lectur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twork Society an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in the New Econom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massification</a:t>
            </a:r>
            <a:br>
              <a:rPr sz="4400"/>
            </a:b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strial economy = mass production, mass consumption economy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itional mass manufacturing factories put out identical objects by the mill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economy=demassified production </a:t>
            </a:r>
            <a:r>
              <a:rPr b="0" lang="en-US" sz="3200" spc="-1" strike="noStrike">
                <a:solidFill>
                  <a:srgbClr val="000000"/>
                </a:solidFill>
                <a:latin typeface="Times New Roman"/>
              </a:rPr>
              <a:t>	</a:t>
            </a:r>
            <a:r>
              <a:rPr b="0" lang="en-US" sz="3200" spc="-1" strike="noStrike">
                <a:solidFill>
                  <a:srgbClr val="000000"/>
                </a:solidFill>
                <a:latin typeface="Times New Roman"/>
              </a:rPr>
              <a:t>short runs; customized produc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amp; media services=segmented, individualiz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a Implications:Narrowcasting</a:t>
            </a:r>
            <a:br>
              <a:rPr sz="4400"/>
            </a:b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che-fixated, small-audience specialty channel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Vo – digital recorders that search t.v. schedules &amp; save only programs suiting user’s tast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ic downloading &amp; iPods with individual play list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gs &amp; subscriptions to Web services aligned with own beliefs &amp; bias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that TiVo data on what viewers watch can be used by advertisers to hyper-target advertising to individuals</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gocasting?</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Rosen, The New  Atlantis (2006):</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68" name="Group 8"/>
          <p:cNvGrpSpPr/>
          <p:nvPr/>
        </p:nvGrpSpPr>
        <p:grpSpPr>
          <a:xfrm>
            <a:off x="0" y="1374840"/>
            <a:ext cx="9144000" cy="4108320"/>
            <a:chOff x="0" y="1374840"/>
            <a:chExt cx="9144000" cy="4108320"/>
          </a:xfrm>
        </p:grpSpPr>
        <p:sp>
          <p:nvSpPr>
            <p:cNvPr id="69" name="Rectangle 7"/>
            <p:cNvSpPr/>
            <p:nvPr/>
          </p:nvSpPr>
          <p:spPr>
            <a:xfrm>
              <a:off x="0" y="1374840"/>
              <a:ext cx="9144000" cy="4108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 name="Group 6"/>
            <p:cNvGrpSpPr/>
            <p:nvPr/>
          </p:nvGrpSpPr>
          <p:grpSpPr>
            <a:xfrm>
              <a:off x="0" y="1374840"/>
              <a:ext cx="9144000" cy="4108320"/>
              <a:chOff x="0" y="1374840"/>
              <a:chExt cx="9144000" cy="4108320"/>
            </a:xfrm>
          </p:grpSpPr>
          <p:sp>
            <p:nvSpPr>
              <p:cNvPr id="71" name="Rectangle 5"/>
              <p:cNvSpPr/>
              <p:nvPr/>
            </p:nvSpPr>
            <p:spPr>
              <a:xfrm>
                <a:off x="0" y="1374840"/>
                <a:ext cx="9144000" cy="4108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Rectangle 4"/>
              <p:cNvSpPr/>
              <p:nvPr/>
            </p:nvSpPr>
            <p:spPr>
              <a:xfrm>
                <a:off x="0" y="1374840"/>
                <a:ext cx="9144000" cy="4108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remote control shifted power to the individual, and the technologies that have embraced this principle in its wake—the Walkman, the Video Cassette Recorder, Digital Video Recorders such as TiVo, and portable music devices like the iPod—have created a world where the individual’s control over the content, style, and timing of what he consumes is nearly absolute…  We have created and embraced technologies that enable us to make a fetish of our preferenc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Rosen, The New Atlantis (200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Ts &amp; Social Transformation</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ular view of technology as force for societal transformation (Toffler, 198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ical innovation seen as driver of transformation of core economic/social structures characteristic of capitalist societies for past 2 centur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im that ICTs are forging new modes of production and shifting economy from industrial to post-industrial model.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ld versus New Economy</a:t>
            </a:r>
            <a:endParaRPr b="0" lang="en-US" sz="4400" spc="-1" strike="noStrike">
              <a:solidFill>
                <a:srgbClr val="000000"/>
              </a:solidFill>
              <a:latin typeface="Times New Roman"/>
            </a:endParaRPr>
          </a:p>
        </p:txBody>
      </p:sp>
      <p:sp>
        <p:nvSpPr>
          <p:cNvPr id="4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ustria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ding indust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ur marke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e of work</a:t>
            </a:r>
            <a:endParaRPr b="0" lang="en-US" sz="2400" spc="-1" strike="noStrike">
              <a:solidFill>
                <a:srgbClr val="000000"/>
              </a:solidFill>
              <a:latin typeface="Times New Roman"/>
            </a:endParaRPr>
          </a:p>
        </p:txBody>
      </p:sp>
      <p:sp>
        <p:nvSpPr>
          <p:cNvPr id="47"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 Industria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ding indust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ur marke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e of 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ing Technology /Changing Workplaces</a:t>
            </a: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ustri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hines  amplified/ replaced physical labour &amp; increased material production pow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s production of goods &amp; transportation of goo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y is production centr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mass consumption, manufacturing, motorization</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t Industri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digital technology amplifies mental labou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sion of information , information networks &amp; data bank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obal work environments,flexible work arrangmen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mass knowledge cre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ylorism and Scientific Management </a:t>
            </a:r>
            <a:r>
              <a:rPr b="0" lang="en-US" sz="2800" spc="-1" strike="noStrike">
                <a:solidFill>
                  <a:srgbClr val="000000"/>
                </a:solidFill>
                <a:latin typeface="Times New Roman"/>
              </a:rPr>
              <a:t>(Robins &amp; Webster, 1999)</a:t>
            </a:r>
            <a:endParaRPr b="0" lang="en-US" sz="2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 of engineering principles to the industrial system of producti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motion studies to ensure efficienc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iz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y work to be planned, coordinated, &amp; controlled under expert dir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centralized/controlled in planning departments = potential for surveillance + controlling production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ing Labour Market</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ustrial</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availa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 secur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de 12</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employ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ges/salar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ine production serv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erson services</a:t>
            </a:r>
            <a:endParaRPr b="0" lang="en-US" sz="20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st Industrial</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availa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secur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long learn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act, consul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ormance pay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ine production serv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person serv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mbolic analytic servic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twork Society</a:t>
            </a:r>
            <a:br>
              <a:rPr sz="4400"/>
            </a:br>
            <a:r>
              <a:rPr b="0" lang="en-US" sz="4400" spc="-1" strike="noStrike">
                <a:solidFill>
                  <a:srgbClr val="000000"/>
                </a:solidFill>
                <a:latin typeface="Times New Roman"/>
              </a:rPr>
              <a:t>Castells (1997)</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formational econom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econom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enterpris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formation of work: flexi-worker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polarization/social exclus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less tim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ce of flo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w Economy</a:t>
            </a:r>
            <a:br>
              <a:rPr sz="4400"/>
            </a:br>
            <a:r>
              <a:rPr b="0" lang="en-US" sz="4400" spc="-1" strike="noStrike">
                <a:solidFill>
                  <a:srgbClr val="000000"/>
                </a:solidFill>
                <a:latin typeface="Times New Roman"/>
              </a:rPr>
              <a:t>(Castells, 2001)</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ivity is derived from the application of knowled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ing: capacity to assemble information and distribute it in a flexible, adaptable way aided by I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ly skilled, mobile labour key resource for any compan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ic versus self programmable labour</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novation</a:t>
            </a:r>
            <a:br>
              <a:rPr sz="4400"/>
            </a:br>
            <a:r>
              <a:rPr b="0" lang="en-US" sz="4400" spc="-1" strike="noStrike">
                <a:solidFill>
                  <a:srgbClr val="000000"/>
                </a:solidFill>
                <a:latin typeface="Times New Roman"/>
              </a:rPr>
              <a:t>(Castells, 2001)</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ility to create new products &amp; proce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 of shared inform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ational lear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ritorial concentrations of innovation and production – Silicon Valle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6T01:58:01Z</dcterms:created>
  <dc:creator>myer siemiatycki</dc:creator>
  <dc:description/>
  <dc:language>en-US</dc:language>
  <cp:lastModifiedBy>bernatek</cp:lastModifiedBy>
  <dcterms:modified xsi:type="dcterms:W3CDTF">2009-01-22T21:04:35Z</dcterms:modified>
  <cp:revision>8</cp:revision>
  <dc:subject/>
  <dc:title>Old versus New Economy</dc:title>
</cp:coreProperties>
</file>